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68B-7705-49E0-BBB5-FB0AEF50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70D-6DCF-43A2-A76C-687EAE5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CF1-4D79-4F45-9389-99C54349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6EB-0444-423E-B312-692280A3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7E6-5EFA-4653-944B-598857D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F1C-C1AA-43D1-8273-94B33052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551-6BE9-4483-AB84-BFCEB35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908-3BAC-496D-B1C5-E37CE78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2D8-4ECB-4D22-926B-206D4CE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6FE-1F31-46A0-A81D-5364D20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31C-364E-4D45-8EC4-5A7FDB3F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DAF-0778-4812-BC3A-12456F1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3F1-D3B4-44CA-A14F-F58B3BCE4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ad ac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road ac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road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nk dr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mechanical condition of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 dr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weather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loa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sp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over t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ngers of ac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loss of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loss of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impris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racts fines from traffic depar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loss of money in terms of rep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traffic j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delays in delivery of merchand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t of road ac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nj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g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pal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ra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se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l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wen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bb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kon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19:26:58Z</dcterms:created>
  <dc:creator>daudi</dc:creator>
  <dc:description/>
  <dc:language>en-US</dc:language>
  <cp:lastModifiedBy>Kakuru Benard</cp:lastModifiedBy>
  <dcterms:modified xsi:type="dcterms:W3CDTF">2017-05-24T21:58:21Z</dcterms:modified>
  <cp:revision>8</cp:revision>
  <dc:subject/>
  <dc:title>Road accidents</dc:title>
</cp:coreProperties>
</file>